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B98582-77E0-484B-A3E1-961FFAA25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4E19E8-21A8-47F8-AF40-9C4C14194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3D8DB9-B322-4F9F-8656-18C9BE57D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305D96-64CA-4D63-8B66-2153B99EB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371E1-50F1-49EC-B5EB-6A738D500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14539-08AA-4F76-8ECA-FDC49EDE5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026C5-A554-48E5-B381-445735819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E8924-E67A-48AA-997A-376CBF75A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DB7E9-0DF8-44A4-B2E6-F5D78FED8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630E4-36FD-4F84-B4BC-2570CC4B3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FE024-6454-43F7-BEDF-A1EBBDF7F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69CF62-E394-4F6D-9156-A91BE234E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50D99-D94F-4117-8811-53CCE86D0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9526D-6E79-4E69-86F8-C5BC7E5F2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EB865-9343-439F-B75E-F33B690EE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5C039-4E6B-49FA-895B-418E8BA2A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9C81A-58C6-461B-89A4-A67B090FF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8D45B6-13D6-4A0E-9473-6C4BBC1B4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BACFCB-4023-435C-A00B-BCBF65EF6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000565-0FD6-46D2-87E0-7F1AA2DED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5ECF9E-5B88-41DC-A514-AE5743F48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5C90E0-E220-44B6-BB59-327623D4F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127BC3-C210-4098-A85F-53F71E577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4F0B32-B639-441D-B180-1BBF4850F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C649F-0C23-4B2A-A305-748A2AC3C17F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895A5-1CE1-40BB-AA09-1AF9EA065065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ffcc"/>
                </a:solidFill>
                <a:latin typeface="Tahoma"/>
              </a:rPr>
              <a:t>The Importance of Being Earnes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look at Victorian ideals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Queen Victoria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648320" y="1447560"/>
            <a:ext cx="4038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orn 1819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ecame queen at 18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igned from 1837-190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usband’s name was Albert. He died in 1861 and she mourned him for the rest of her life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33520" y="1447920"/>
            <a:ext cx="3213000" cy="407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Victorian Prudery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t was improper to say "leg" in mixed company; instead, the preferred euphemism “limb” was used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erbal or written communication of emotion or sexual feelings was not acceptable so people instead used the language of flowers or food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lleged that tableclothes and bedskirts were created to cover “legs” of tables and bed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re likely they were created to cover the shabbiness of the furniture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Repression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haracterised by  sexual repressio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n's clothing is formal and stiff, women's is fussy and over-don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kles are scandalou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619280" y="2028960"/>
            <a:ext cx="1714320" cy="36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Oscar Wilde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orn October 16, 1854 in Dubli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ducated at Trinity College and Oxfor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amous for flamboyant dress, contempt of conventional values and belief in aestheticis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arried Constance Lloyd in 1884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id not hide his homosexualit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5327640" y="1932120"/>
            <a:ext cx="2679840" cy="38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Aestheticism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mbraced the idea of art for the sake of beauty and beauty alone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haracterised by the attitude of making "art for art's sake”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elongs to the anti-Victorian reaction and had post-Romantic root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ook place in the late Victorian period from around 1868 to 1901, and is generally considered to have ended with the trial of Oscar Wilde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Wilde’s Downfall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end began when Wilde met Lord Alfred Douglas (Bosie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ad a homosexual affair from 1891 – his death in 1900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as put on trial for homosexual acts. Being gay was not a crime, the sexual act itself wa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rial brought by Bosie’s homophobic father (Queensberry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The Court Case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osie (protected by his powerful family) was never charge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nly names mentioned were those of working class. Names of upper class were written if necessary but never reveale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ase allegedly was partly to redirected attention away from Queensberry’s older brother who was having an affair with Philip Primrose who would later become Prime Minister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overnment punished Wilde to appease Queensberry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The Punishmen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ilde sentenced to two years imprisonment in Pentonville Prison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pent 23 hours a day in a poorly ventilated cell and 1 hour exercising. Had very little human contact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llowed no photos, could only read The Bible and prayer book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od was unspeakable, bed was wooden boards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The Rest of His Punishmen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eft this prison 30 lbs lighter and in poor health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ransferred to Wandsworth Priso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leased in May 19, 1897. Was in falirly good health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mmediately went to France and never returned to England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The Final Years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id not write again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rank heavily and begged money from friend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ived the rest of his life with Bosi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ied on Nov 3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 1900 at age 46. Believed that he died of meningoencephalitis complicated by chronic middle ear infection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eft behind two sons: Vyvyan and Cyri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The Victorian Era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Queen Victoria had the longest reign in British history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ultural, political, economic, industrial and scientific changes that occurred during her reign were remarkable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en Victoria ascended to the throne, England was essentially agrarian and rural; upon her death, the country was highly industrialized and connected by an expansive railway network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8T21:06:30Z</dcterms:created>
  <dc:creator>VUSD</dc:creator>
  <dc:description/>
  <dc:language>en-US</dc:language>
  <cp:lastModifiedBy>VUSD</cp:lastModifiedBy>
  <dcterms:modified xsi:type="dcterms:W3CDTF">2007-01-31T20:00:18Z</dcterms:modified>
  <cp:revision>7</cp:revision>
  <dc:subject/>
  <dc:title>The Importance of Being Earnest</dc:title>
</cp:coreProperties>
</file>